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3.jpeg" ContentType="image/jpeg"/>
  <Override PartName="/ppt/media/image21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1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6702-C514-4EA2-8374-77285955435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895/199203331.e5/0_b1880_990c0059_L" TargetMode="External"/><Relationship Id="rId2" Type="http://schemas.openxmlformats.org/officeDocument/2006/relationships/hyperlink" Target="http://img01.chitalnya.ru/upload2/321/86067992681637.jpg" TargetMode="External"/><Relationship Id="rId3" Type="http://schemas.openxmlformats.org/officeDocument/2006/relationships/hyperlink" Target="http://oxothik.ru/userimages/image/articles/hare.jpg" TargetMode="External"/><Relationship Id="rId4" Type="http://schemas.openxmlformats.org/officeDocument/2006/relationships/hyperlink" Target="http://content.foto.mail.ru/mail/ritari99/_answers/i-1668.jpg" TargetMode="External"/><Relationship Id="rId5" Type="http://schemas.openxmlformats.org/officeDocument/2006/relationships/hyperlink" Target="http://hunter.com.ua/i/cat/1201.jpg.pagespeed.ce.I88TJPpxCn.jpg" TargetMode="External"/><Relationship Id="rId6" Type="http://schemas.openxmlformats.org/officeDocument/2006/relationships/hyperlink" Target="http://survinat.ru/wp-content/uploads/2010/02/zayac3-300x228.jpg" TargetMode="External"/><Relationship Id="rId7" Type="http://schemas.openxmlformats.org/officeDocument/2006/relationships/hyperlink" Target="http://ohotn.ru/wp-content/uploads/2011/05/berloga.jpg" TargetMode="External"/><Relationship Id="rId8" Type="http://schemas.openxmlformats.org/officeDocument/2006/relationships/hyperlink" Target="http://chernomorskoe.info/forum/download/file.php?id=9960" TargetMode="External"/><Relationship Id="rId9" Type="http://schemas.openxmlformats.org/officeDocument/2006/relationships/hyperlink" Target="http://img0.liveinternet.ru/images/attach/c/5/85/828/85828872_1300949242_2ddd78f4f0b3.jpg" TargetMode="External"/><Relationship Id="rId10" Type="http://schemas.openxmlformats.org/officeDocument/2006/relationships/slide" Target="../slides/slide26.xml"/><Relationship Id="rId11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Жизнь зверей зи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F345-B92A-4FD0-86D8-7DFEA0272C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то по ёлкам ловко ска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 взлетает на дуб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то в дупле орехи пряч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ушит на зиму гриб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8B79-EA94-48D9-97FC-62B85C78FA2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зимой белка?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F2BD-AE69-458F-B365-9A44A938ADE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ем питаются зайцы и лос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йцы и лоси питаются молодыми ветками и ко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2B75-CB02-4F3C-9DFB-10B5BA11103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баны выкапывают из-под снега корни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E2A8-75AB-4528-85A4-DA74138EE92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 неба падают снежин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ак на сказочной карти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удем их ловить рук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потом покажем ма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FF6B-7F69-440B-83D6-CE499503C25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вокруг лежат сугро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негом замело 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е завязнуть в поле что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м выше н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(Потягиваем руки в стороны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ходьба на мес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колени высоко поднимае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BB23-F60A-4CFF-8FD6-AFC1384E027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ех зверей она хитр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Шубка рыжая на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ышный хвост - её крас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зовут её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37CD-7C0C-41AA-87D7-3BD0B882CDF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ли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06B8-B4DF-4266-8B31-FDBB33002E7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 охотятся зимой вол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D747-1ACF-420F-A015-07FC8ADD570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дравствуйте! Узнали ме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Я в лесу не один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7374-1EDB-4271-8464-45687B06323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Хорошо говори звук "С“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а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е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                  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е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а             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и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о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             оты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оты́скивает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Бе́лка оты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вает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и́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EF33-44F7-4335-8F24-1354C259E50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E9E4-E6D7-45C4-9030-2A0CE963FBB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E28B-8738-446C-8C81-5C0E30B20A9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огда выпадает много снега, зверям трудно добывать к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E41A-E29A-4D03-A1A3-5E20F5CF02C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 лесники помогают живо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есники и охотники подкармливают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8987-A273-4C7C-9A30-418163B1ADA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мы дел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интересного и нового вы узнали на сегодняшнем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им был урок: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интере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влекательный</a:t>
            </a:r>
            <a:r>
              <a:rPr b="1" lang="ru-RU" sz="1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тру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ску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интерес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D8BD-471F-45B1-9E39-45702680570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тернет- ресурсы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 Олень в лес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img-fotki.yandex.ru/get/9895/199203331.e5/0_b1880_990c0059_L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ний лес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img01.chitalnya.ru/upload2/321/86067992681637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oxothik.ru/userimages/image/articles/hare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content.foto.mail.ru/mail/ritari99/_answers/i-1668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http://hunter.com.ua/i/cat/1201.jpg.pagespeed.ce.I88TJPpxCn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http://survinat.ru/wp-content/uploads/2010/02/zayac3-300x228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ведь в берлог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http://ohotn.ru/wp-content/uploads/2011/05/berloga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су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http://chernomorskoe.info/forum/download/file.php?id=996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Ёжи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http://img0.liveinternet.ru/images/attach/c/5/85/828/85828872_1300949242_2ddd78f4f0b3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ianimal.ru/wp-content/uploads/2011/05/belka16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lara.gorod.tomsk.ru/posts-files/72/582/i/q49GXeZgzjc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img-fotki.yandex.ru/get/4115/102205733.4f/0_9941b_43e121c9_XX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йцы http://sarafanradio-kursk.ru/files/images/news/2013/12/05/38_2511722685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сь http://oxothik.ru/userimages/0_c2c4_dd2315a5_X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бан http://mypets.kiev.ua/sites/default/files/admin/45_16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http://www.zooclub.ru/attach/wild/154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с мышкой http://img-fotki.yandex.ru/get/4411/128578942.0/0_73c55_748f30e3_L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охотится http://belorechie.net/uploads/posts/2011-12/1324908405_ohota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 http://img0.liveinternet.ru/images/attach/b/0/19572/19572862_15135032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 http://www.fullhdoboi.ru/_ph/3/160331745.jpg?1414255348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я волков https://lh3.googleusercontent.com/-g-xDxm13ipA/Uc8BEKqLMpI/AAAAAAAAD-Q/3p5fnMat0_0/s400/003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 http://900igr.net/datai/priroda/4-Zima-v-stikhakh.files/0009-018-A-lisa-i-seryj-volk-te-v-okhote-znajut-tolk.gif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-загадка http://ic.pics.livejournal.com/sviridenkov/12934488/278613/278613_origina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-отгадка http://ic.pics.livejournal.com/sviridenkov/12934488/280777/280777_origina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лени в лесу http://s011.radikal.ru/i315/1112/dc/2c5cb48e4597t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кормка животных https://gov39.ru/images/news4/podkormka.jp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59BA-776E-444F-BA4A-C3E8176F287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Жизнь зверей зимой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Прочитайте текст на странице 83-8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D847-E920-4271-AA3E-4EFAA96C2FC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 укрывает зимой леса, поля, лу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етер наметает большие сугро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Холодно, морозно в лесу.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ая погода зимой в ле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D512-592F-4969-9CB0-013DFD22CCB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- сер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Зимой - бел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8CDA-E2CA-4814-A479-4CF64750B45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зимой зая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яц делает в снегу глубокие ямки и залегает в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3894-B6F5-49DA-BE70-47D01D7BB97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ая шерсть у зайца зим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6C0E-F668-42BF-8CB0-1E296FBF23C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по лесу гуля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Зимой в берлоге отдых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19E7-B90F-4391-80C2-30CC0C077B0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ют зимой медведи, барсуки, ежи, мыш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0A2C-4EC1-4F85-BE40-92DD0D96283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40A6-DF40-4735-9711-D6134FC0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BD3F-5DD1-47E1-A2C1-3E3F473B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198-55B4-4802-AACB-BD416AFE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9E6E-FEE9-4E10-A290-141CBB82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6B4-0C64-4028-A951-FFF9D2A2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DB6-2F2F-440C-A5F8-89E29995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5374-1C1D-4FC0-AC0F-8DD705E9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870D-08CF-431F-A174-62AC0D11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FC3D-3AE3-4B4A-A5CE-0015D817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AB5-7AE9-4078-8F32-6CACDA6E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2C6-ED81-4638-8B2A-F55B223C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781D-0FE5-4C5B-9798-70E8B2CE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A451-6FDB-4A6A-9929-101F3A4372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tki.yandex.ru/users/bordersong/view/49929/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895/199203331.e5/0_b1880_990c0059_L" TargetMode="External"/><Relationship Id="rId2" Type="http://schemas.openxmlformats.org/officeDocument/2006/relationships/hyperlink" Target="http://img01.chitalnya.ru/upload2/321/86067992681637.jpg" TargetMode="External"/><Relationship Id="rId3" Type="http://schemas.openxmlformats.org/officeDocument/2006/relationships/hyperlink" Target="http://oxothik.ru/userimages/image/articles/hare.jpg" TargetMode="External"/><Relationship Id="rId4" Type="http://schemas.openxmlformats.org/officeDocument/2006/relationships/hyperlink" Target="http://content.foto.mail.ru/mail/ritari99/_answers/i-1668.jpg" TargetMode="External"/><Relationship Id="rId5" Type="http://schemas.openxmlformats.org/officeDocument/2006/relationships/hyperlink" Target="http://hunter.com.ua/i/cat/1201.jpg.pagespeed.ce.I88TJPpxCn.jpg" TargetMode="External"/><Relationship Id="rId6" Type="http://schemas.openxmlformats.org/officeDocument/2006/relationships/hyperlink" Target="http://survinat.ru/wp-content/uploads/2010/02/zayac3-300x228.jpg" TargetMode="External"/><Relationship Id="rId7" Type="http://schemas.openxmlformats.org/officeDocument/2006/relationships/hyperlink" Target="http://ohotn.ru/wp-content/uploads/2011/05/berloga.jpg" TargetMode="External"/><Relationship Id="rId8" Type="http://schemas.openxmlformats.org/officeDocument/2006/relationships/hyperlink" Target="http://chernomorskoe.info/forum/download/file.php?id=9960" TargetMode="External"/><Relationship Id="rId9" Type="http://schemas.openxmlformats.org/officeDocument/2006/relationships/hyperlink" Target="http://img0.liveinternet.ru/images/attach/c/5/85/828/85828872_1300949242_2ddd78f4f0b3.jpg" TargetMode="External"/><Relationship Id="rId10" Type="http://schemas.openxmlformats.org/officeDocument/2006/relationships/hyperlink" Target="http://ianimal.ru/wp-content/uploads/2011/05/belka16.jpg" TargetMode="External"/><Relationship Id="rId11" Type="http://schemas.openxmlformats.org/officeDocument/2006/relationships/hyperlink" Target="http://lara.gorod.tomsk.ru/posts-files/72/582/i/q49GXeZgzjc.jpg" TargetMode="External"/><Relationship Id="rId12" Type="http://schemas.openxmlformats.org/officeDocument/2006/relationships/hyperlink" Target="http://img-fotki.yandex.ru/get/4115/102205733.4f/0_9941b_43e121c9_XXL.jpg" TargetMode="External"/><Relationship Id="rId13" Type="http://schemas.openxmlformats.org/officeDocument/2006/relationships/hyperlink" Target="http://sarafanradio-kursk.ru/files/images/news/2013/12/05/38_2511722685.jpg" TargetMode="External"/><Relationship Id="rId14" Type="http://schemas.openxmlformats.org/officeDocument/2006/relationships/hyperlink" Target="http://oxothik.ru/userimages/0_c2c4_dd2315a5_XL.jpg" TargetMode="External"/><Relationship Id="rId15" Type="http://schemas.openxmlformats.org/officeDocument/2006/relationships/hyperlink" Target="http://mypets.kiev.ua/sites/default/files/admin/45_16.jpg" TargetMode="External"/><Relationship Id="rId16" Type="http://schemas.openxmlformats.org/officeDocument/2006/relationships/hyperlink" Target="http://www.zooclub.ru/attach/wild/154.jpg" TargetMode="External"/><Relationship Id="rId17" Type="http://schemas.openxmlformats.org/officeDocument/2006/relationships/hyperlink" Target="http://img-fotki.yandex.ru/get/4411/128578942.0/0_73c55_748f30e3_L" TargetMode="External"/><Relationship Id="rId18" Type="http://schemas.openxmlformats.org/officeDocument/2006/relationships/hyperlink" Target="http://belorechie.net/uploads/posts/2011-12/1324908405_ohota.jpg" TargetMode="External"/><Relationship Id="rId19" Type="http://schemas.openxmlformats.org/officeDocument/2006/relationships/hyperlink" Target="http://img0.liveinternet.ru/images/attach/b/0/19572/19572862_15135032.jpg" TargetMode="External"/><Relationship Id="rId20" Type="http://schemas.openxmlformats.org/officeDocument/2006/relationships/hyperlink" Target="http://www.fullhdoboi.ru/_ph/3/160331745.jpg?1414255348" TargetMode="External"/><Relationship Id="rId21" Type="http://schemas.openxmlformats.org/officeDocument/2006/relationships/hyperlink" Target="https://lh3.googleusercontent.com/-g-xDxm13ipA/Uc8BEKqLMpI/AAAAAAAAD-Q/3p5fnMat0_0/s400/003.jpg" TargetMode="External"/><Relationship Id="rId22" Type="http://schemas.openxmlformats.org/officeDocument/2006/relationships/hyperlink" Target="http://900igr.net/datai/priroda/4-Zima-v-stikhakh.files/0009-018-A-lisa-i-seryj-volk-te-v-okhote-znajut-tolk.gif" TargetMode="External"/><Relationship Id="rId23" Type="http://schemas.openxmlformats.org/officeDocument/2006/relationships/hyperlink" Target="http://ic.pics.livejournal.com/sviridenkov/12934488/278613/278613_original.jpg" TargetMode="External"/><Relationship Id="rId24" Type="http://schemas.openxmlformats.org/officeDocument/2006/relationships/hyperlink" Target="http://ic.pics.livejournal.com/sviridenkov/12934488/280777/280777_original.jpg" TargetMode="External"/><Relationship Id="rId25" Type="http://schemas.openxmlformats.org/officeDocument/2006/relationships/hyperlink" Target="http://s011.radikal.ru/i315/1112/dc/2c5cb48e4597t.jpg" TargetMode="External"/><Relationship Id="rId26" Type="http://schemas.openxmlformats.org/officeDocument/2006/relationships/hyperlink" Target="https://gov39.ru/images/news4/podkormka.jpg" TargetMode="Externa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расивые Анимашки, анимационные картинки Животные бесплатно без регистрации без смс, анимированные картинки Животные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476360" y="907920"/>
            <a:ext cx="6192720" cy="155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рок природовед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3 класс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076720" y="5516640"/>
            <a:ext cx="424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Подготовил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учитель начальных класс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ГОУ ЯО Рыбинской СКОШИ №2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Кузнецова О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1692360" y="981000"/>
            <a:ext cx="5753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Жизнь зверей зимой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971640" y="1557360"/>
            <a:ext cx="71532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то по ёлкам ловко скачет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взлетает на дубы?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то в дупле орехи прячет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шит на зиму грибы?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914840" y="4941720"/>
            <a:ext cx="1686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Бел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4140360" y="4149720"/>
            <a:ext cx="3332160" cy="2498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71600" y="158760"/>
            <a:ext cx="84963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Белка отыскивает свои запасы, ест семена из шишек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971640" y="476280"/>
            <a:ext cx="7272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зимой белк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948120" cy="3159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4211640" y="1844640"/>
            <a:ext cx="4681440" cy="3113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6" name="Picture 12" descr=""/>
          <p:cNvPicPr/>
          <p:nvPr/>
        </p:nvPicPr>
        <p:blipFill>
          <a:blip r:embed="rId3"/>
          <a:stretch/>
        </p:blipFill>
        <p:spPr>
          <a:xfrm>
            <a:off x="2700360" y="4221000"/>
            <a:ext cx="3332160" cy="2498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68360" y="260280"/>
            <a:ext cx="8229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йцы и лоси питаются молодыми ветками и коро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3" descr="http://img-fotki.yandex.ru/get/23/bordersong.2/0_c2c4_dd2315a5_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2276640"/>
            <a:ext cx="4176720" cy="3668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2565360"/>
            <a:ext cx="4644720" cy="3097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11" name="Rectangle 2"/>
          <p:cNvSpPr/>
          <p:nvPr/>
        </p:nvSpPr>
        <p:spPr>
          <a:xfrm>
            <a:off x="539640" y="476280"/>
            <a:ext cx="82296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ем питаются зайцы и лос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920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баны выкапывают из-под снега корни растений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755640" y="333360"/>
            <a:ext cx="7920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ем питаются зимой кабан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434200" cy="4075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1619280" y="1989000"/>
            <a:ext cx="561960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Физминутка</a:t>
            </a:r>
            <a:endParaRPr b="1" lang="en-US" sz="80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395280" y="501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>
            <a:off x="7308720" y="40464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4"/>
          <a:stretch/>
        </p:blipFill>
        <p:spPr>
          <a:xfrm>
            <a:off x="7380360" y="501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5"/>
          <a:stretch/>
        </p:blipFill>
        <p:spPr>
          <a:xfrm>
            <a:off x="3995640" y="83664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6"/>
          <a:stretch/>
        </p:blipFill>
        <p:spPr>
          <a:xfrm>
            <a:off x="2627280" y="350028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7"/>
          <a:stretch/>
        </p:blipFill>
        <p:spPr>
          <a:xfrm>
            <a:off x="5292720" y="350028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8"/>
          <a:stretch/>
        </p:blipFill>
        <p:spPr>
          <a:xfrm>
            <a:off x="3924360" y="4581360"/>
            <a:ext cx="1204920" cy="13608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13"/>
          <p:cNvSpPr txBox="1"/>
          <p:nvPr/>
        </p:nvSpPr>
        <p:spPr>
          <a:xfrm>
            <a:off x="1042920" y="1268280"/>
            <a:ext cx="71532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неба падают снежинки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на сказочной картинке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дем их ловить руками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потом покажем маме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198160" y="4124160"/>
            <a:ext cx="467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Поднимаем руки над головой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делаем хватательные движе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словно ловим снежинки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1042920" y="1268280"/>
            <a:ext cx="71532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вокруг лежат сугробы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негом замело дороги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 завязнуть в поле чтобы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днимаем выше ноги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967120" y="437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18320" y="4124160"/>
            <a:ext cx="417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Потягиваем руки в стороны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ходьба на мест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колени высоко поднимаем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971640" y="1557360"/>
            <a:ext cx="71532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сех зверей она хитрей, 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убка рыжая на ней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ышный хвост - её краса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зовут её ..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915560" y="4941720"/>
            <a:ext cx="141372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с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7" descr="af9cbda36c3cc3711bb06da28891ce9b"/>
          <p:cNvPicPr/>
          <p:nvPr/>
        </p:nvPicPr>
        <p:blipFill>
          <a:blip r:embed="rId1"/>
          <a:stretch/>
        </p:blipFill>
        <p:spPr>
          <a:xfrm>
            <a:off x="3708360" y="4221000"/>
            <a:ext cx="2691000" cy="20178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11280" y="260280"/>
            <a:ext cx="8229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са ходит по лесу, ищет мышей, зайце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7" descr="af9cbda36c3cc3711bb06da28891ce9b"/>
          <p:cNvPicPr/>
          <p:nvPr/>
        </p:nvPicPr>
        <p:blipFill>
          <a:blip r:embed="rId1"/>
          <a:stretch/>
        </p:blipFill>
        <p:spPr>
          <a:xfrm>
            <a:off x="4356000" y="1916280"/>
            <a:ext cx="4419720" cy="3314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1" name="Rectangle 2"/>
          <p:cNvSpPr/>
          <p:nvPr/>
        </p:nvSpPr>
        <p:spPr>
          <a:xfrm>
            <a:off x="611280" y="333360"/>
            <a:ext cx="82296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лис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043160" cy="2690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2124000" y="4149720"/>
            <a:ext cx="3210120" cy="2381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539640" y="333360"/>
            <a:ext cx="8229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олки зимой охотятся стаями и нападают на лося, каба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7" descr="x_c3dc13c5"/>
          <p:cNvPicPr/>
          <p:nvPr/>
        </p:nvPicPr>
        <p:blipFill>
          <a:blip r:embed="rId1"/>
          <a:stretch/>
        </p:blipFill>
        <p:spPr>
          <a:xfrm>
            <a:off x="609480" y="2133720"/>
            <a:ext cx="4457880" cy="33433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7" name="Picture 2" descr="Картинка 5 из 10556"/>
          <p:cNvPicPr/>
          <p:nvPr/>
        </p:nvPicPr>
        <p:blipFill>
          <a:blip r:embed="rId2"/>
          <a:stretch/>
        </p:blipFill>
        <p:spPr>
          <a:xfrm>
            <a:off x="5292720" y="2205000"/>
            <a:ext cx="3659040" cy="2745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3132000" y="4581360"/>
            <a:ext cx="3429000" cy="21434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9" name="Rectangle 2"/>
          <p:cNvSpPr/>
          <p:nvPr/>
        </p:nvSpPr>
        <p:spPr>
          <a:xfrm>
            <a:off x="826920" y="333360"/>
            <a:ext cx="770580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 охотятся зимой волк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красивые Анимашки, анимационные картинки Волки бесплатно без регистрации без смс, анимированные картинки Волки"/>
          <p:cNvPicPr/>
          <p:nvPr/>
        </p:nvPicPr>
        <p:blipFill>
          <a:blip r:embed="rId1"/>
          <a:stretch/>
        </p:blipFill>
        <p:spPr>
          <a:xfrm>
            <a:off x="1908000" y="1413000"/>
            <a:ext cx="5088240" cy="51624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539640" y="8100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95280" y="368280"/>
            <a:ext cx="813744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дравствуйте! Узнали меня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Я в лесу не один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5640" y="399600"/>
            <a:ext cx="648036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1476360" y="620640"/>
            <a:ext cx="57610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Хорошо говори звук "С"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55640" y="2205000"/>
            <a:ext cx="7272360" cy="289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е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                  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е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а            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и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о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             оты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ва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ты́скивает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Бе́лка оты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вает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и́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1197000" y="404640"/>
            <a:ext cx="67672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332840" cy="5267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981000" y="404640"/>
            <a:ext cx="67672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666120" cy="50529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огда выпадает много снега, зверям трудно добывать корм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2" name="Picture 17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723080" cy="4840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есники и охотники подкармливают животных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608360" cy="3058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66" name="Picture 6" descr="A207"/>
          <p:cNvPicPr/>
          <p:nvPr/>
        </p:nvPicPr>
        <p:blipFill>
          <a:blip r:embed="rId2"/>
          <a:stretch/>
        </p:blipFill>
        <p:spPr>
          <a:xfrm>
            <a:off x="4427640" y="3213000"/>
            <a:ext cx="4284720" cy="3213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7" name="Rectangle 7"/>
          <p:cNvSpPr/>
          <p:nvPr/>
        </p:nvSpPr>
        <p:spPr>
          <a:xfrm>
            <a:off x="1258920" y="260280"/>
            <a:ext cx="662472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 лесники помогают животным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Что мы делали на уроке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Объект 1"/>
          <p:cNvSpPr/>
          <p:nvPr/>
        </p:nvSpPr>
        <p:spPr>
          <a:xfrm>
            <a:off x="539640" y="1700280"/>
            <a:ext cx="8064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Что интересного и нового вы узнали на сегодняшнем урок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539640" y="3290040"/>
            <a:ext cx="806472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аким был урок: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интерес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увлекательный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труд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скуч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интересный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:\Documents and Settings\user\Мои документы\Мои рисунки\sn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8"/>
          <p:cNvSpPr txBox="1"/>
          <p:nvPr/>
        </p:nvSpPr>
        <p:spPr>
          <a:xfrm>
            <a:off x="971640" y="1916280"/>
            <a:ext cx="7219800" cy="23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пасибо за урок!</a:t>
            </a:r>
            <a:endParaRPr b="1" lang="en-US" sz="72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олодцы!</a:t>
            </a:r>
            <a:endParaRPr b="1" lang="en-US" sz="72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imes New Roman"/>
              </a:rPr>
              <a:t>Интернет- ресурсы</a:t>
            </a:r>
            <a:br>
              <a:rPr sz="18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Фон Олень в лесу</a:t>
            </a:r>
            <a:r>
              <a:rPr b="0" lang="ru-RU" sz="18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"/>
              </a:rPr>
              <a:t>http://img-fotki.yandex.ru/get/9895/199203331.e5/0_b1880_990c0059_L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имний лес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http://img01.chitalnya.ru/upload2/321/86067992681637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3"/>
              </a:rPr>
              <a:t>http://oxothik.ru/userimages/image/articles/hare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4"/>
              </a:rPr>
              <a:t>http://content.foto.mail.ru/mail/ritari99/_answers/i-1668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5"/>
              </a:rPr>
              <a:t>http://hunter.com.ua/i/cat/1201.jpg.pagespeed.ce.I88TJPpxCn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6"/>
              </a:rPr>
              <a:t>http://survinat.ru/wp-content/uploads/2010/02/zayac3-300x228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Медведь в берлоге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7"/>
              </a:rPr>
              <a:t>http://ohotn.ru/wp-content/uploads/2011/05/berloga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арсу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8"/>
              </a:rPr>
              <a:t>http://chernomorskoe.info/forum/download/file.php?id=9960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Ёжи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9"/>
              </a:rPr>
              <a:t>http://img0.liveinternet.ru/images/attach/c/5/85/828/85828872_1300949242_2ddd78f4f0b3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0"/>
              </a:rPr>
              <a:t>http://ianimal.ru/wp-content/uploads/2011/05/belka16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1"/>
              </a:rPr>
              <a:t>http://lara.gorod.tomsk.ru/posts-files/72/582/i/q49GXeZgzjc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2"/>
              </a:rPr>
              <a:t>http://img-fotki.yandex.ru/get/4115/102205733.4f/0_9941b_43e121c9_XX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йцы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3"/>
              </a:rPr>
              <a:t>http://sarafanradio-kursk.ru/files/images/news/2013/12/05/38_2511722685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ось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4"/>
              </a:rPr>
              <a:t>http://oxothik.ru/userimages/0_c2c4_dd2315a5_X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Кабан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5"/>
              </a:rPr>
              <a:t>http://mypets.kiev.ua/sites/default/files/admin/45_16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6"/>
              </a:rPr>
              <a:t>http://www.zooclub.ru/attach/wild/154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с мышкой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7"/>
              </a:rPr>
              <a:t>http://img-fotki.yandex.ru/get/4411/128578942.0/0_73c55_748f30e3_L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охотится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8"/>
              </a:rPr>
              <a:t>http://belorechie.net/uploads/posts/2011-12/1324908405_ohota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9"/>
              </a:rPr>
              <a:t>http://img0.liveinternet.ru/images/attach/b/0/19572/19572862_15135032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0"/>
              </a:rPr>
              <a:t>http://www.fullhdoboi.ru/_ph/3/160331745.jpg?1414255348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Стая волков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1"/>
              </a:rPr>
              <a:t>https://lh3.googleusercontent.com/-g-xDxm13ipA/Uc8BEKqLMpI/AAAAAAAAD-Q/3p5fnMat0_0/s400/003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2"/>
              </a:rPr>
              <a:t>http://900igr.net/datai/priroda/4-Zima-v-stikhakh.files/0009-018-A-lisa-i-seryj-volk-te-v-okhote-znajut-tolk.gif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-загад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3"/>
              </a:rPr>
              <a:t>http://ic.pics.livejournal.com/sviridenkov/12934488/278613/278613_origina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-отгад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4"/>
              </a:rPr>
              <a:t>http://ic.pics.livejournal.com/sviridenkov/12934488/280777/280777_origina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Олени в лесу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5"/>
              </a:rPr>
              <a:t>http://s011.radikal.ru/i315/1112/dc/2c5cb48e4597t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Подкормка животных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6"/>
              </a:rPr>
              <a:t>https://gov39.ru/images/news4/podkormka.jpg</a:t>
            </a:r>
            <a:br>
              <a:rPr sz="1400"/>
            </a:b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красивые Анимашки, анимационные картинки Животные бесплатно без регистрации без смс, анимированные картинки Животны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826920" y="2205000"/>
            <a:ext cx="73454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очитайте текст на странице 83-84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616200" y="99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900000" y="769320"/>
            <a:ext cx="7058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WordArt 11"/>
          <p:cNvSpPr txBox="1"/>
          <p:nvPr/>
        </p:nvSpPr>
        <p:spPr>
          <a:xfrm>
            <a:off x="1692360" y="981000"/>
            <a:ext cx="5753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Жизнь зверей зимой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wallpaper_8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64" name="Text Box 7"/>
          <p:cNvSpPr/>
          <p:nvPr/>
        </p:nvSpPr>
        <p:spPr>
          <a:xfrm>
            <a:off x="540720" y="260280"/>
            <a:ext cx="811476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нег укрывает зимой леса, поля, луг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етер наметает большие сугро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Холодно, морозно в лес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404720" y="476280"/>
            <a:ext cx="5854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кая погода зимой в лес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2484360" y="2060640"/>
            <a:ext cx="400068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- серый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ой - белый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850120" y="4653000"/>
            <a:ext cx="138924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я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f_18229904"/>
          <p:cNvPicPr/>
          <p:nvPr/>
        </p:nvPicPr>
        <p:blipFill>
          <a:blip r:embed="rId1"/>
          <a:stretch/>
        </p:blipFill>
        <p:spPr>
          <a:xfrm>
            <a:off x="4572000" y="4005360"/>
            <a:ext cx="2176560" cy="1998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%D1%84%D0%BE%D1%82%D0%BE"/>
          <p:cNvPicPr/>
          <p:nvPr/>
        </p:nvPicPr>
        <p:blipFill>
          <a:blip r:embed="rId1"/>
          <a:stretch/>
        </p:blipFill>
        <p:spPr>
          <a:xfrm>
            <a:off x="4427640" y="2492280"/>
            <a:ext cx="4419360" cy="3446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4" name="Picture 5" descr="i?id=111478410-15-72&amp;n=21"/>
          <p:cNvPicPr/>
          <p:nvPr/>
        </p:nvPicPr>
        <p:blipFill>
          <a:blip r:embed="rId2"/>
          <a:stretch/>
        </p:blipFill>
        <p:spPr>
          <a:xfrm>
            <a:off x="539640" y="3860640"/>
            <a:ext cx="3657600" cy="2552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1258920" y="2060640"/>
            <a:ext cx="2247840" cy="2266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6" name="Rectangle 2"/>
          <p:cNvSpPr/>
          <p:nvPr/>
        </p:nvSpPr>
        <p:spPr>
          <a:xfrm>
            <a:off x="468360" y="189000"/>
            <a:ext cx="8229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яц делает в снегу глубокие ямки и залегает в ни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42920" y="333360"/>
            <a:ext cx="6985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зимой заяц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f_18229904"/>
          <p:cNvPicPr/>
          <p:nvPr/>
        </p:nvPicPr>
        <p:blipFill>
          <a:blip r:embed="rId1"/>
          <a:stretch/>
        </p:blipFill>
        <p:spPr>
          <a:xfrm>
            <a:off x="4788000" y="2205000"/>
            <a:ext cx="4048200" cy="3718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0" name="Rectangle 2"/>
          <p:cNvSpPr/>
          <p:nvPr/>
        </p:nvSpPr>
        <p:spPr>
          <a:xfrm>
            <a:off x="468360" y="333360"/>
            <a:ext cx="82296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имняя шерсть у зайца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густая и тёпла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68360" y="549360"/>
            <a:ext cx="822960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ая шерсть у зайца зимо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4189320" cy="31845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971640" y="2205000"/>
            <a:ext cx="7153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по лесу гуляет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ой в берлоге отдыхает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701360" y="4508640"/>
            <a:ext cx="24346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Медвед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4356000" y="3573360"/>
            <a:ext cx="4114800" cy="2855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39640" y="260280"/>
            <a:ext cx="8229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пят в берлогах и норах медведи, барсуки, ежи, мыш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539640" y="404640"/>
            <a:ext cx="822960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ют зимой медведи, барсуки, ежи, мыш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11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330800" cy="3004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3" name="Picture 16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70440" cy="2977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4" name="Picture 17" descr=""/>
          <p:cNvPicPr/>
          <p:nvPr/>
        </p:nvPicPr>
        <p:blipFill>
          <a:blip r:embed="rId3"/>
          <a:stretch/>
        </p:blipFill>
        <p:spPr>
          <a:xfrm>
            <a:off x="2987640" y="4149720"/>
            <a:ext cx="3002040" cy="24620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12:42:49Z</dcterms:created>
  <dc:creator>Кузнецова О.В.</dc:creator>
  <dc:description/>
  <dc:language>en-US</dc:language>
  <cp:lastModifiedBy>LEGION2</cp:lastModifiedBy>
  <dcterms:modified xsi:type="dcterms:W3CDTF">2015-04-24T10:30:58Z</dcterms:modified>
  <cp:revision>17</cp:revision>
  <dc:subject/>
  <dc:title>Жизнь зверей зимой</dc:title>
</cp:coreProperties>
</file>